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CBEC-DBE3-4FCE-BFBE-0CCA948B72B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84A2-C523-4890-A513-C56030B20D6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1219320" y="3259080"/>
            <a:ext cx="6705360" cy="30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D6EF-341A-41F9-B7C4-71B84B829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6365-99A7-4B51-8ED9-DEB63711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6BF6-BFFF-4CCD-94D7-6A2EC1F12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3600-BD21-41FC-8026-DC2DDFC40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4E1B-A0A8-4793-B4C6-DCFF57E3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2C76-557F-451A-AA28-8F04AB79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AAC3-4907-49E3-BE82-249F6973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7BC9-2791-47F1-B1EB-0CD28B6A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FA4B-6881-4156-B0CB-ECAF36D4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9D08-CF5F-46FF-BCCF-20CBD9E7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A7C7-C7CB-4E06-8F9F-2CDCA300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62F2-19DB-4C75-9CE5-BAACE84E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0413-155C-4DDB-BF8B-C53F8FDD9CA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8080" cy="1060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0000ff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ff"/>
                </a:solidFill>
                <a:uFillTx/>
                <a:latin typeface="Arial"/>
              </a:rPr>
              <a:t>LE OP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52000" y="189000"/>
            <a:ext cx="86425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Esempio di acquisto di un’opzione 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itolo Italcementi vale 5,34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GGI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rike 5€; scadenza 2 mesi;premio 0,15€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tto 100 azioni; premio pagato 15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) Italcementi quota 5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’opzione è ATM e il suo valore è nu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CADENZA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) Italcementi quota 3,8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’opzione è ITM, l’esercizio porta 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n guadagno di 105€ (1,2*100 – 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) Italcementi quota 7,2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’opzione è OTM, perdita del prem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mic Sans MS"/>
              </a:rPr>
              <a:t>Effetto leva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 con 15€ si investe in un contratto che vale 500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33,33 volte di pi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252360" y="1125360"/>
            <a:ext cx="1366920" cy="790920"/>
          </a:xfrm>
          <a:custGeom>
            <a:avLst/>
            <a:gdLst>
              <a:gd name="textAreaLeft" fmla="*/ 0 w 1366920"/>
              <a:gd name="textAreaRight" fmla="*/ 1367280 w 1366920"/>
              <a:gd name="textAreaTop" fmla="*/ 0 h 790920"/>
              <a:gd name="textAreaBottom" fmla="*/ 791280 h 7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252360" y="3357720"/>
            <a:ext cx="2374920" cy="863280"/>
          </a:xfrm>
          <a:custGeom>
            <a:avLst/>
            <a:gdLst>
              <a:gd name="textAreaLeft" fmla="*/ 0 w 2374920"/>
              <a:gd name="textAreaRight" fmla="*/ 2374920 w 237492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4" y="0"/>
                </a:lnTo>
                <a:lnTo>
                  <a:pt x="21600" y="10800"/>
                </a:lnTo>
                <a:lnTo>
                  <a:pt x="16204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252360" y="5805360"/>
            <a:ext cx="8352000" cy="719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33cc"/>
                </a:solidFill>
                <a:latin typeface="Comic Sans MS"/>
              </a:rPr>
              <a:t>SHORT PUT profilo rischio/rendimento per il vendit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"/>
          <p:cNvSpPr/>
          <p:nvPr/>
        </p:nvSpPr>
        <p:spPr>
          <a:xfrm flipV="1">
            <a:off x="1547640" y="1052640"/>
            <a:ext cx="0" cy="446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"/>
          <p:cNvSpPr/>
          <p:nvPr/>
        </p:nvSpPr>
        <p:spPr>
          <a:xfrm>
            <a:off x="900000" y="4724280"/>
            <a:ext cx="734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4427640" y="4221000"/>
            <a:ext cx="352908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2700360" y="4221000"/>
            <a:ext cx="1727280" cy="18720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A cosa servono le opz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2000" y="1052640"/>
            <a:ext cx="8434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Trading direzionale «cauto»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il pay-off asimmetrico consente di ridurre le perdite nel caso in cui il mercato «giochi» cont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Effetto leva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controllando un elevato controvalore di attività finanziarie con un investimento limitato, si possono ottenere risultati amplificati rispetto alla performance del sottos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Gestione del rischio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attuare strategie di coper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Strategie di trading complesse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attraverso l’acquisto/vendita di due o più opzioni con differenti caratterist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LONG STRADDLE profilo rischio/rendimento per il compra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"/>
          <p:cNvSpPr/>
          <p:nvPr/>
        </p:nvSpPr>
        <p:spPr>
          <a:xfrm flipV="1">
            <a:off x="1547640" y="1484280"/>
            <a:ext cx="0" cy="446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900000" y="4724280"/>
            <a:ext cx="734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"/>
          <p:cNvSpPr/>
          <p:nvPr/>
        </p:nvSpPr>
        <p:spPr>
          <a:xfrm flipH="1" flipV="1">
            <a:off x="2195280" y="2420640"/>
            <a:ext cx="2089080" cy="3313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8"/>
          <p:cNvSpPr/>
          <p:nvPr/>
        </p:nvSpPr>
        <p:spPr>
          <a:xfrm flipV="1">
            <a:off x="4284720" y="2420640"/>
            <a:ext cx="2520720" cy="3313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cc"/>
                </a:solidFill>
                <a:latin typeface="Comic Sans MS"/>
              </a:rPr>
              <a:t>SHORT STRADDLE  profilo rischio/rendimento per il 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"/>
          <p:cNvSpPr/>
          <p:nvPr/>
        </p:nvSpPr>
        <p:spPr>
          <a:xfrm flipV="1">
            <a:off x="1547640" y="1267920"/>
            <a:ext cx="0" cy="4464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900000" y="4724280"/>
            <a:ext cx="734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"/>
          <p:cNvSpPr/>
          <p:nvPr/>
        </p:nvSpPr>
        <p:spPr>
          <a:xfrm flipV="1">
            <a:off x="2484360" y="3644640"/>
            <a:ext cx="1943280" cy="21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4427640" y="3645000"/>
            <a:ext cx="1800000" cy="22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ff"/>
                </a:solidFill>
                <a:latin typeface="Comic Sans MS"/>
              </a:rPr>
              <a:t>Caratteristiche contrattu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197000"/>
          <a:ext cx="8221680" cy="5513400"/>
        </p:xfrm>
        <a:graphic>
          <a:graphicData uri="http://schemas.openxmlformats.org/drawingml/2006/table">
            <a:tbl>
              <a:tblPr/>
              <a:tblGrid>
                <a:gridCol w="2459160"/>
                <a:gridCol w="1942920"/>
                <a:gridCol w="2017800"/>
                <a:gridCol w="1801800"/>
              </a:tblGrid>
              <a:tr h="1079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BO su FTSEM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BO su FTSEMIB settiman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pzioni su a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ile op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ric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ota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i Indice 2,5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i Indice 2,5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Eu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mensione cont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I. x 2,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I. x 2,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E. x lot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mio contrat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I. x 2,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I. x 2,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mio x lot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iorno di scade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° Venerdì h.9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° 2° 4° Venerdì h.9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° Venerdì h.9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caden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scaden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scaden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quida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contanti. Pari a P.E. – Valore Indice su prezzi apertura rilevati il giorno di scade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egna fis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242640"/>
            <a:ext cx="8229600" cy="642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MARZO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prile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Maggio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GIUGNO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SETTEMBRE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DICEMBRE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GIUGNO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DICEMBRE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GIUGNO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DICEMBRE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DICEMBRE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DICEMBRE 20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1116000" y="0"/>
            <a:ext cx="0" cy="6670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1116000" y="40464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1116000" y="1108080"/>
            <a:ext cx="479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>
            <a:off x="1116000" y="1863720"/>
            <a:ext cx="479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9"/>
          <p:cNvSpPr/>
          <p:nvPr/>
        </p:nvSpPr>
        <p:spPr>
          <a:xfrm>
            <a:off x="1116000" y="2619360"/>
            <a:ext cx="47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0"/>
          <p:cNvSpPr/>
          <p:nvPr/>
        </p:nvSpPr>
        <p:spPr>
          <a:xfrm>
            <a:off x="1116000" y="67464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1"/>
          <p:cNvSpPr/>
          <p:nvPr/>
        </p:nvSpPr>
        <p:spPr>
          <a:xfrm>
            <a:off x="1116000" y="89064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2"/>
          <p:cNvSpPr/>
          <p:nvPr/>
        </p:nvSpPr>
        <p:spPr>
          <a:xfrm>
            <a:off x="1116000" y="3357720"/>
            <a:ext cx="38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3"/>
          <p:cNvSpPr/>
          <p:nvPr/>
        </p:nvSpPr>
        <p:spPr>
          <a:xfrm>
            <a:off x="1116000" y="4132440"/>
            <a:ext cx="38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4"/>
          <p:cNvSpPr/>
          <p:nvPr/>
        </p:nvSpPr>
        <p:spPr>
          <a:xfrm>
            <a:off x="1116000" y="488808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"/>
          <p:cNvSpPr/>
          <p:nvPr/>
        </p:nvSpPr>
        <p:spPr>
          <a:xfrm>
            <a:off x="1116000" y="537372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6"/>
          <p:cNvSpPr/>
          <p:nvPr/>
        </p:nvSpPr>
        <p:spPr>
          <a:xfrm>
            <a:off x="1116000" y="585936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7"/>
          <p:cNvSpPr/>
          <p:nvPr/>
        </p:nvSpPr>
        <p:spPr>
          <a:xfrm>
            <a:off x="1116000" y="639936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33cc"/>
                </a:solidFill>
                <a:latin typeface="Comic Sans MS"/>
              </a:rPr>
              <a:t>Valore Op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5640" y="1484280"/>
          <a:ext cx="7848720" cy="4853160"/>
        </p:xfrm>
        <a:graphic>
          <a:graphicData uri="http://schemas.openxmlformats.org/drawingml/2006/table">
            <a:tbl>
              <a:tblPr/>
              <a:tblGrid>
                <a:gridCol w="2743200"/>
                <a:gridCol w="1360440"/>
                <a:gridCol w="1873440"/>
                <a:gridCol w="1871640"/>
              </a:tblGrid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atto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ttosta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zzo Eserciz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ta resid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latilit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asso d’interes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vidend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AutoShape 73"/>
          <p:cNvSpPr/>
          <p:nvPr/>
        </p:nvSpPr>
        <p:spPr>
          <a:xfrm>
            <a:off x="3851280" y="2276640"/>
            <a:ext cx="50472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74"/>
          <p:cNvSpPr/>
          <p:nvPr/>
        </p:nvSpPr>
        <p:spPr>
          <a:xfrm>
            <a:off x="5435640" y="2276640"/>
            <a:ext cx="57636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75"/>
          <p:cNvSpPr/>
          <p:nvPr/>
        </p:nvSpPr>
        <p:spPr>
          <a:xfrm>
            <a:off x="7308720" y="2276640"/>
            <a:ext cx="576360" cy="50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6"/>
          <p:cNvSpPr/>
          <p:nvPr/>
        </p:nvSpPr>
        <p:spPr>
          <a:xfrm>
            <a:off x="3780000" y="2997360"/>
            <a:ext cx="576000" cy="50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7"/>
          <p:cNvSpPr/>
          <p:nvPr/>
        </p:nvSpPr>
        <p:spPr>
          <a:xfrm>
            <a:off x="5364000" y="2997360"/>
            <a:ext cx="57636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78"/>
          <p:cNvSpPr/>
          <p:nvPr/>
        </p:nvSpPr>
        <p:spPr>
          <a:xfrm>
            <a:off x="3780000" y="3716280"/>
            <a:ext cx="57600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9"/>
          <p:cNvSpPr/>
          <p:nvPr/>
        </p:nvSpPr>
        <p:spPr>
          <a:xfrm>
            <a:off x="5364000" y="371628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80"/>
          <p:cNvSpPr/>
          <p:nvPr/>
        </p:nvSpPr>
        <p:spPr>
          <a:xfrm>
            <a:off x="7308720" y="371628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81"/>
          <p:cNvSpPr/>
          <p:nvPr/>
        </p:nvSpPr>
        <p:spPr>
          <a:xfrm>
            <a:off x="3851280" y="4365720"/>
            <a:ext cx="50472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82"/>
          <p:cNvSpPr/>
          <p:nvPr/>
        </p:nvSpPr>
        <p:spPr>
          <a:xfrm>
            <a:off x="5364000" y="4365720"/>
            <a:ext cx="50508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83"/>
          <p:cNvSpPr/>
          <p:nvPr/>
        </p:nvSpPr>
        <p:spPr>
          <a:xfrm>
            <a:off x="7308720" y="4365720"/>
            <a:ext cx="50508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4"/>
          <p:cNvSpPr/>
          <p:nvPr/>
        </p:nvSpPr>
        <p:spPr>
          <a:xfrm>
            <a:off x="3851280" y="5084640"/>
            <a:ext cx="504720" cy="505080"/>
          </a:xfrm>
          <a:prstGeom prst="upArrow">
            <a:avLst>
              <a:gd name="adj1" fmla="val 50000"/>
              <a:gd name="adj2" fmla="val 25018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5"/>
          <p:cNvSpPr/>
          <p:nvPr/>
        </p:nvSpPr>
        <p:spPr>
          <a:xfrm>
            <a:off x="5364000" y="5084640"/>
            <a:ext cx="505080" cy="505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86"/>
          <p:cNvSpPr/>
          <p:nvPr/>
        </p:nvSpPr>
        <p:spPr>
          <a:xfrm>
            <a:off x="7308720" y="508464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7"/>
          <p:cNvSpPr/>
          <p:nvPr/>
        </p:nvSpPr>
        <p:spPr>
          <a:xfrm>
            <a:off x="3851280" y="5734080"/>
            <a:ext cx="50472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8"/>
          <p:cNvSpPr/>
          <p:nvPr/>
        </p:nvSpPr>
        <p:spPr>
          <a:xfrm>
            <a:off x="7308720" y="5734080"/>
            <a:ext cx="50508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89"/>
          <p:cNvSpPr/>
          <p:nvPr/>
        </p:nvSpPr>
        <p:spPr>
          <a:xfrm>
            <a:off x="5364000" y="573408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90"/>
          <p:cNvSpPr/>
          <p:nvPr/>
        </p:nvSpPr>
        <p:spPr>
          <a:xfrm>
            <a:off x="7308720" y="292428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OP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2000" y="1267920"/>
            <a:ext cx="87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00"/>
                </a:solidFill>
                <a:uFillTx/>
                <a:latin typeface="Comic Sans MS"/>
              </a:rPr>
              <a:t>Contratt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che, a fronte del pagamento di un “premio” iniziale, attribuisce la facoltà 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mprare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pzione call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 o vendere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pzione put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un certo quantitativo di attività finanziaria o   reale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attività sottostant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 un prezzo predeterminato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prezzo di esercizi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o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trike pric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lla scadenza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pzione europe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 o entro una specifica scadenza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pzione american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2000" y="404280"/>
            <a:ext cx="8642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Opzione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CQUIREN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r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Ve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diritto di acquis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00 azioni Enel al prez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efissato ed entro u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ata futu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539640" y="1700280"/>
            <a:ext cx="1511280" cy="2233440"/>
          </a:xfrm>
          <a:custGeom>
            <a:avLst/>
            <a:gdLst>
              <a:gd name="textAreaLeft" fmla="*/ 202320 w 1511280"/>
              <a:gd name="textAreaRight" fmla="*/ 1308960 w 1511280"/>
              <a:gd name="textAreaTop" fmla="*/ 390600 h 2233440"/>
              <a:gd name="textAreaBottom" fmla="*/ 1619280 h 22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6659640" y="1700280"/>
            <a:ext cx="1800000" cy="223200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390600 h 2232000"/>
              <a:gd name="textAreaBottom" fmla="*/ 161820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9"/>
          <p:cNvSpPr/>
          <p:nvPr/>
        </p:nvSpPr>
        <p:spPr>
          <a:xfrm>
            <a:off x="395280" y="5373720"/>
            <a:ext cx="4392720" cy="1224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8218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LONG CALL profilo rischio/rendimento per il deten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 scadenza, un’opzione call va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0 se S &gt;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Q – S) se S &lt;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 flipV="1">
            <a:off x="1547640" y="1052640"/>
            <a:ext cx="0" cy="417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971640" y="4292640"/>
            <a:ext cx="734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7"/>
          <p:cNvSpPr/>
          <p:nvPr/>
        </p:nvSpPr>
        <p:spPr>
          <a:xfrm>
            <a:off x="1547640" y="4724280"/>
            <a:ext cx="2305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8"/>
          <p:cNvSpPr/>
          <p:nvPr/>
        </p:nvSpPr>
        <p:spPr>
          <a:xfrm flipV="1">
            <a:off x="3852720" y="1413000"/>
            <a:ext cx="3095640" cy="3311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Opzione “at the money” (ATM) se lo strike è uguale alla quotazione del sotto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Opzione “in the Money” (ITM) se lo strike è inferiore alla quotazione del sotto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Opzione “out of the money” (OTM) se lo strike è superiore alla quotazione del sotto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5"/>
          <p:cNvGraphicFramePr/>
          <p:nvPr/>
        </p:nvGraphicFramePr>
        <p:xfrm>
          <a:off x="463680" y="3357720"/>
          <a:ext cx="8216640" cy="276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3357720"/>
                    <a:ext cx="8216640" cy="27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52000" y="189000"/>
            <a:ext cx="86425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Esempio di acquisto di un’opzione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itolo Enel vale 3,06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GGI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trike 3,2€; scadenza 3 mesi;premio 0,10€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otto 500 azioni; premio pagato 50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1) Enel quota 3,2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ATM e il suo valore è nu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CADENZA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2) Enel quota 3,9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ITM, l’esercizio porta 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un guadagno di 300€ (0,7*500 – 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3) Enel quota 2,6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OTM, perdita del prem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cc"/>
                </a:solidFill>
                <a:latin typeface="Comic Sans MS"/>
              </a:rPr>
              <a:t>Effetto leva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: con 50€ si investe in un contratto che vale 1.600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32 volte di pi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5"/>
          <p:cNvSpPr/>
          <p:nvPr/>
        </p:nvSpPr>
        <p:spPr>
          <a:xfrm>
            <a:off x="252360" y="1125360"/>
            <a:ext cx="1366920" cy="790920"/>
          </a:xfrm>
          <a:custGeom>
            <a:avLst/>
            <a:gdLst>
              <a:gd name="textAreaLeft" fmla="*/ 0 w 1366920"/>
              <a:gd name="textAreaRight" fmla="*/ 1367280 w 1366920"/>
              <a:gd name="textAreaTop" fmla="*/ 0 h 790920"/>
              <a:gd name="textAreaBottom" fmla="*/ 791280 h 7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252360" y="3357720"/>
            <a:ext cx="2374920" cy="863280"/>
          </a:xfrm>
          <a:custGeom>
            <a:avLst/>
            <a:gdLst>
              <a:gd name="textAreaLeft" fmla="*/ 0 w 2374920"/>
              <a:gd name="textAreaRight" fmla="*/ 2374920 w 237492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4" y="0"/>
                </a:lnTo>
                <a:lnTo>
                  <a:pt x="21600" y="10800"/>
                </a:lnTo>
                <a:lnTo>
                  <a:pt x="16204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252360" y="5805360"/>
            <a:ext cx="8352000" cy="719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Comic Sans MS"/>
              </a:rPr>
              <a:t>SHORT CALL profilo rischio/rendimento per il 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"/>
          <p:cNvSpPr/>
          <p:nvPr/>
        </p:nvSpPr>
        <p:spPr>
          <a:xfrm flipV="1">
            <a:off x="1547640" y="1052640"/>
            <a:ext cx="0" cy="446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"/>
          <p:cNvSpPr/>
          <p:nvPr/>
        </p:nvSpPr>
        <p:spPr>
          <a:xfrm>
            <a:off x="971640" y="4292640"/>
            <a:ext cx="734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>
            <a:off x="1547640" y="3860640"/>
            <a:ext cx="230508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>
            <a:off x="3852720" y="3860640"/>
            <a:ext cx="2590920" cy="259272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2000" y="404280"/>
            <a:ext cx="8642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Opzione 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CQUIREN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r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Ve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diritto di vend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00 azioni Enel al prez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efissato ed entro u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ata futu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"/>
          <p:cNvSpPr/>
          <p:nvPr/>
        </p:nvSpPr>
        <p:spPr>
          <a:xfrm>
            <a:off x="539640" y="1700280"/>
            <a:ext cx="1511280" cy="2233440"/>
          </a:xfrm>
          <a:custGeom>
            <a:avLst/>
            <a:gdLst>
              <a:gd name="textAreaLeft" fmla="*/ 202320 w 1511280"/>
              <a:gd name="textAreaRight" fmla="*/ 1308960 w 1511280"/>
              <a:gd name="textAreaTop" fmla="*/ 390600 h 2233440"/>
              <a:gd name="textAreaBottom" fmla="*/ 1619280 h 22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6659640" y="1700280"/>
            <a:ext cx="1800000" cy="223200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390600 h 2232000"/>
              <a:gd name="textAreaBottom" fmla="*/ 161820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395280" y="5373720"/>
            <a:ext cx="4392720" cy="1224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8218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LONG PUT profilo rischio/rendimento per il deten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scadenza, un’opzione put va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 se S &lt;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S – Q) se S &gt;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"/>
          <p:cNvSpPr/>
          <p:nvPr/>
        </p:nvSpPr>
        <p:spPr>
          <a:xfrm flipV="1">
            <a:off x="1547640" y="1052640"/>
            <a:ext cx="0" cy="417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>
            <a:off x="971640" y="4292640"/>
            <a:ext cx="734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8"/>
          <p:cNvSpPr/>
          <p:nvPr/>
        </p:nvSpPr>
        <p:spPr>
          <a:xfrm flipH="1">
            <a:off x="4643280" y="4797360"/>
            <a:ext cx="28101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9"/>
          <p:cNvSpPr/>
          <p:nvPr/>
        </p:nvSpPr>
        <p:spPr>
          <a:xfrm flipH="1" flipV="1">
            <a:off x="2341440" y="1557360"/>
            <a:ext cx="2301840" cy="32400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4:10:52Z</dcterms:created>
  <dc:creator>Patrizia Pia</dc:creator>
  <dc:description/>
  <dc:language>en-US</dc:language>
  <cp:lastModifiedBy>Marina</cp:lastModifiedBy>
  <cp:lastPrinted>2012-05-02T15:09:26Z</cp:lastPrinted>
  <dcterms:modified xsi:type="dcterms:W3CDTF">2013-04-12T10:15:07Z</dcterms:modified>
  <cp:revision>22</cp:revision>
  <dc:subject/>
  <dc:title>Diapositiva 1</dc:title>
</cp:coreProperties>
</file>